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44CC-E9A9-4C92-A59B-2555E41D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0848-3D5E-483A-8F46-02CCBF31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D0D-03F3-4D71-A48F-1B728C89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8DDA-64B7-4359-B2D6-A9A832AC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39CC-6E9B-49FC-9568-4EEFC5F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8E93-1A0F-4ECC-9B55-86E23F0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985-AA69-40F2-8902-23ECF020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613-B5D2-436C-BAEA-6D70C5BC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FDA-3285-40DF-AF7B-9156EEE3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1075-C6A0-4287-9E93-F6E991CF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E6F-D3D1-4950-8F5A-04FAAF12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0A1-2461-44DB-87C5-F15B1BDE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A945-DA9D-4D7B-AB78-D91FB9A3A0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0:59:46Z</dcterms:created>
  <dc:creator>Administrator</dc:creator>
  <dc:description/>
  <dc:language>en-US</dc:language>
  <cp:lastModifiedBy>Administrator</cp:lastModifiedBy>
  <dcterms:modified xsi:type="dcterms:W3CDTF">2015-04-21T01:00:09Z</dcterms:modified>
  <cp:revision>1</cp:revision>
  <dc:subject/>
  <dc:title/>
</cp:coreProperties>
</file>